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834E-2C7B-4D63-A644-EBE9E97D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84B6-8A9C-4FB5-BADC-F27FBB41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23F4-B4EE-4B38-8E2E-BFA65416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EBB0-722B-46E5-AD14-69735FE6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36CE-29C3-4CD2-94C7-FE6847AC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7DC9-95D6-496E-8125-4E91DD53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C4D7-A008-44DD-82E0-7EFE083C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FB8B-86E2-48FC-99B9-463948EF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6D3F-8BFE-4739-AB6F-BCD9D122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EFCD-E324-4DEC-84A9-F4971806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3FEA-8539-4C70-AC9D-4E78D5FD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B57C-36B6-4E76-844F-12ACEDE6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6505-6F0A-4805-8414-F9AD7F2FC16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>
            <a:lum contrast="18000"/>
          </a:blip>
          <a:srcRect l="0" t="0" r="1787" b="0"/>
          <a:stretch/>
        </p:blipFill>
        <p:spPr>
          <a:xfrm>
            <a:off x="250920" y="333360"/>
            <a:ext cx="4868640" cy="631044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3708360" y="4221000"/>
            <a:ext cx="5256360" cy="230364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107932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ПОДРОСТОК </a:t>
            </a:r>
            <a:endParaRPr b="0" lang="en-US" sz="1800" spc="1" strike="noStrike">
              <a:ln w="0">
                <a:noFill/>
              </a:ln>
              <a:solidFill>
                <a:srgbClr val="c00000"/>
              </a:solidFill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107932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       </a:t>
            </a:r>
            <a:r>
              <a:rPr b="0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107932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И   ЗАКОН</a:t>
            </a:r>
            <a:endParaRPr b="0" lang="en-US" sz="1800" spc="1" strike="noStrike">
              <a:ln w="0">
                <a:noFill/>
              </a:ln>
              <a:solidFill>
                <a:srgbClr val="c00000"/>
              </a:solidFill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6"/>
          <p:cNvPicPr/>
          <p:nvPr/>
        </p:nvPicPr>
        <p:blipFill>
          <a:blip r:embed="rId1"/>
          <a:stretch/>
        </p:blipFill>
        <p:spPr>
          <a:xfrm>
            <a:off x="2081160" y="0"/>
            <a:ext cx="497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7"/>
          <p:cNvPicPr/>
          <p:nvPr/>
        </p:nvPicPr>
        <p:blipFill>
          <a:blip r:embed="rId1"/>
          <a:stretch/>
        </p:blipFill>
        <p:spPr>
          <a:xfrm>
            <a:off x="1946160" y="0"/>
            <a:ext cx="524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8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9"/>
          <p:cNvPicPr/>
          <p:nvPr/>
        </p:nvPicPr>
        <p:blipFill>
          <a:blip r:embed="rId1"/>
          <a:stretch/>
        </p:blipFill>
        <p:spPr>
          <a:xfrm>
            <a:off x="1963800" y="0"/>
            <a:ext cx="521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10"/>
          <p:cNvPicPr/>
          <p:nvPr/>
        </p:nvPicPr>
        <p:blipFill>
          <a:blip r:embed="rId1"/>
          <a:stretch/>
        </p:blipFill>
        <p:spPr>
          <a:xfrm>
            <a:off x="2016000" y="0"/>
            <a:ext cx="51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096240" cy="4295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Rectangle 3"/>
          <p:cNvSpPr/>
          <p:nvPr/>
        </p:nvSpPr>
        <p:spPr>
          <a:xfrm>
            <a:off x="571680" y="4214880"/>
            <a:ext cx="8286480" cy="25628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татья 5. 35. Неисполнение родителями или иными законными представителями несовершеннолетних обязанностей по содержанию и воспитанию несовершеннолетних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Неисполнение или ненадлежащее исполнение родителями или иными законными представителями несовершеннолетних обязанностей по содержанию, воспитанию, обучению, защите прав несовершеннолетних 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влечет предупреждение или наложение административного штрафа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WordArt 6" descr=""/>
          <p:cNvPicPr/>
          <p:nvPr/>
        </p:nvPicPr>
        <p:blipFill>
          <a:blip r:embed="rId1"/>
          <a:stretch/>
        </p:blipFill>
        <p:spPr>
          <a:xfrm>
            <a:off x="1090440" y="719280"/>
            <a:ext cx="694404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187280" y="3517200"/>
            <a:ext cx="7561440" cy="2745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4f81bd"/>
                </a:solidFill>
                <a:uFillTx/>
                <a:latin typeface="Tahoma"/>
              </a:rPr>
              <a:t>                               </a:t>
            </a: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Tahoma"/>
              </a:rPr>
              <a:t>Дееспособность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 - 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способность своими действиями приобретать и осуществлять права, создавать для себя обязанности и исполнять их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Дееспособность  становится </a:t>
            </a: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Tahoma"/>
              </a:rPr>
              <a:t>полной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Tahoma"/>
              </a:rPr>
              <a:t>к 18 годам, когда ребенок  становиться</a:t>
            </a:r>
            <a:r>
              <a:rPr b="0" i="1" lang="ru-RU" sz="2400" spc="-1" strike="noStrike" u="sng">
                <a:solidFill>
                  <a:srgbClr val="002060"/>
                </a:solidFill>
                <a:uFillTx/>
                <a:latin typeface="Tahoma"/>
              </a:rPr>
              <a:t>  </a:t>
            </a: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Tahoma"/>
              </a:rPr>
              <a:t>совершеннолетним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До совершеннолетия  ребенок обладаешь ограниченной дееспособностью и за все действия своих детей  отвечают  родители</a:t>
            </a: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179280" y="117360"/>
            <a:ext cx="3745080" cy="374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179280" y="234360"/>
            <a:ext cx="8785440" cy="640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огласно ст.20 УК РФ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уголовная ответственность наступает с 16-летнего возраст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 14 лет ответственность наступает за наиболее тяжкие преступления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Убийство;  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Умышленное причинение тяжкого, среднего вреда здоровью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хищение человека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Изнасилование, насильственные действия сексуального характера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Кража; Разбой; Грабеж; Вымогательство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Умышленное уничтожение или повреждение имущества, имеющего особую ценность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Умышленное уничтожение или повреждение имущества при отягчающих обстоятельствах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Неправомерное завладение транспортным средством без цели хищения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Хулиганство при отягчающих обстоятельствах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Терроризм; Вандализм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Заведомо ложное сообщение об акте терроризма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Хищение либо вымогательство оружия, боеприпасов, взрывчатых веществ и взрывных устройств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Хищение либо вымогательство наркотических средств или психотропных веществ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риведение в негодность транспортных средств или путей сообще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3449520" cy="554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7" name="Rectangle 3"/>
          <p:cNvSpPr/>
          <p:nvPr/>
        </p:nvSpPr>
        <p:spPr>
          <a:xfrm>
            <a:off x="3851280" y="2004120"/>
            <a:ext cx="5292720" cy="33858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Статья 2.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Возраст, по достижении которого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аступает   административна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тветственность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Административной ответственности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подлежит лицо, достигшее к моменту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совершения административного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правонарушения возраст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16 лет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1"/>
          <p:cNvPicPr/>
          <p:nvPr/>
        </p:nvPicPr>
        <p:blipFill>
          <a:blip r:embed="rId1"/>
          <a:stretch/>
        </p:blipFill>
        <p:spPr>
          <a:xfrm>
            <a:off x="2124000" y="115920"/>
            <a:ext cx="50720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031840" y="0"/>
            <a:ext cx="508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3"/>
          <p:cNvPicPr/>
          <p:nvPr/>
        </p:nvPicPr>
        <p:blipFill>
          <a:blip r:embed="rId1"/>
          <a:stretch/>
        </p:blipFill>
        <p:spPr>
          <a:xfrm>
            <a:off x="2081160" y="0"/>
            <a:ext cx="497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5"/>
          <p:cNvPicPr/>
          <p:nvPr/>
        </p:nvPicPr>
        <p:blipFill>
          <a:blip r:embed="rId1"/>
          <a:stretch/>
        </p:blipFill>
        <p:spPr>
          <a:xfrm>
            <a:off x="2016000" y="0"/>
            <a:ext cx="51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4"/>
          <p:cNvPicPr/>
          <p:nvPr/>
        </p:nvPicPr>
        <p:blipFill>
          <a:blip r:embed="rId1"/>
          <a:stretch/>
        </p:blipFill>
        <p:spPr>
          <a:xfrm>
            <a:off x="2073240" y="0"/>
            <a:ext cx="499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33:08Z</dcterms:created>
  <dc:creator>HOME</dc:creator>
  <dc:description/>
  <dc:language>en-US</dc:language>
  <cp:lastModifiedBy>Гимназия 48</cp:lastModifiedBy>
  <dcterms:modified xsi:type="dcterms:W3CDTF">2014-12-09T08:54:48Z</dcterms:modified>
  <cp:revision>13</cp:revision>
  <dc:subject/>
  <dc:title>Слайд 1</dc:title>
</cp:coreProperties>
</file>