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drumroll.wav" ContentType="audio/x-wav"/>
  <Override PartName="/ppt/media/image15.png" ContentType="image/png"/>
  <Override PartName="/ppt/media/image3.png" ContentType="image/png"/>
  <Override PartName="/ppt/media/image23.gif" ContentType="image/gif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562E-E2CF-47A3-800F-7667F32B3A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EBF3-1081-4B56-A94B-0E514A0D3E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C61-C843-4241-A3F0-5FB587E6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936-112E-4811-9A18-2F501EF6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787-7FE1-47BF-81E6-8438395F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662-C3DF-4FEF-B69E-64D9600E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24C7-4E10-4E57-AF58-35BDF416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5752-9534-4225-8DD4-6CEFC74F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EC94-C91E-4A1D-826B-11075F89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1508-D528-4956-A1D2-54036E17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565C-0619-42D1-9795-8D94CE7C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0A88-8D35-4210-84D5-E713B6FA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8227-6D5B-4A19-9124-DDCA4F01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0DD-ACBB-4C44-AEB2-AD63B024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16F0-81E8-4F65-A6E9-6A5F857C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FCB7-ED8D-4FCA-A73A-AE8B5706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EBC5-C47D-4A18-8997-E337A3E2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CC9D-7832-4E42-BF94-DAA0BC77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ACEE-FE7C-47FC-851C-F519E6DC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6AA2-E142-4704-8527-18264511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D6E8-CC0B-4BA8-A7F7-254FFD5A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3CFE-675C-4A23-A048-1BAAD7D7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8E92-F684-4E57-96CA-499318A5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608A-569D-4DED-9176-0FA75D07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823-D1E6-4642-B009-42C18DC5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550D8-D19A-48F2-9A3A-55F41060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771C3-A1C9-42D3-B033-45CA8A8F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3D95-214C-4914-8DC5-36DF46B5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513E-F33C-4E01-9FB9-CAA47356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CC752-C28B-4AD6-BE24-81B77464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EDC4-30F5-4558-9295-16D526CD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22D10-582E-4892-AD19-D430C4C6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3AE-A739-412C-9EE2-196ED06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2D6-330C-4EB8-A8AC-D5C6C5CD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904-0EAE-4295-82B7-677531DE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2A7-F28E-406D-97AD-6998F71F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226-86EB-4F21-932C-7EEA2FFD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622-5C8F-4333-BD8A-A9DC5762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25.xml"/><Relationship Id="rId22" Type="http://schemas.openxmlformats.org/officeDocument/2006/relationships/slideLayout" Target="../slideLayouts/slideLayout26.xml"/><Relationship Id="rId23" Type="http://schemas.openxmlformats.org/officeDocument/2006/relationships/slideLayout" Target="../slideLayouts/slideLayout27.xml"/><Relationship Id="rId24" Type="http://schemas.openxmlformats.org/officeDocument/2006/relationships/slideLayout" Target="../slideLayouts/slideLayout28.xml"/><Relationship Id="rId25" Type="http://schemas.openxmlformats.org/officeDocument/2006/relationships/slideLayout" Target="../slideLayouts/slideLayout29.xml"/><Relationship Id="rId26" Type="http://schemas.openxmlformats.org/officeDocument/2006/relationships/slideLayout" Target="../slideLayouts/slideLayout30.xml"/><Relationship Id="rId27" Type="http://schemas.openxmlformats.org/officeDocument/2006/relationships/slideLayout" Target="../slideLayouts/slideLayout31.xml"/><Relationship Id="rId28" Type="http://schemas.openxmlformats.org/officeDocument/2006/relationships/slideLayout" Target="../slideLayouts/slideLayout32.xml"/><Relationship Id="rId29" Type="http://schemas.openxmlformats.org/officeDocument/2006/relationships/slideLayout" Target="../slideLayouts/slideLayout33.xml"/><Relationship Id="rId30" Type="http://schemas.openxmlformats.org/officeDocument/2006/relationships/slideLayout" Target="../slideLayouts/slideLayout34.xml"/><Relationship Id="rId31" Type="http://schemas.openxmlformats.org/officeDocument/2006/relationships/slideLayout" Target="../slideLayouts/slideLayout35.xml"/><Relationship Id="rId3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5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6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7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8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7B1E-86C8-416D-B119-58BDCB68B39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5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6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7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8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1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20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11AB-4FEB-41FE-8E40-FF966A8FDBA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5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6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7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8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1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20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EBC1-4A18-4C5A-9E87-97A2A51AF5A8}" type="slidenum">
              <a:rPr b="0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1"/>
    <p:sldLayoutId id="2147483676" r:id="rId22"/>
    <p:sldLayoutId id="2147483677" r:id="rId23"/>
    <p:sldLayoutId id="2147483678" r:id="rId24"/>
    <p:sldLayoutId id="2147483679" r:id="rId25"/>
    <p:sldLayoutId id="2147483680" r:id="rId26"/>
    <p:sldLayoutId id="2147483681" r:id="rId27"/>
    <p:sldLayoutId id="2147483682" r:id="rId28"/>
    <p:sldLayoutId id="2147483683" r:id="rId29"/>
    <p:sldLayoutId id="2147483684" r:id="rId30"/>
    <p:sldLayoutId id="2147483685" r:id="rId31"/>
    <p:sldLayoutId id="2147483686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СТИЛИ  СЕМЕЙНОГО  ВОСПИТАНИЯ 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285920" y="384120"/>
            <a:ext cx="74008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w Cen MT"/>
              </a:rPr>
              <a:t>Информация для родителей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w Cen MT"/>
              </a:rPr>
              <a:t>«О методах  и стилях  семейного  воспитания»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50" name="Рисунок 3" descr="j0345405.wmf"/>
          <p:cNvPicPr/>
          <p:nvPr/>
        </p:nvPicPr>
        <p:blipFill>
          <a:blip r:embed="rId1"/>
          <a:stretch/>
        </p:blipFill>
        <p:spPr>
          <a:xfrm>
            <a:off x="1357200" y="4071960"/>
            <a:ext cx="1793880" cy="1789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стиль воспитания  АВТОРИТАРНЫЙ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2560" y="928440"/>
            <a:ext cx="6429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Родители убеждены, что имеют все «права на ребенка», они могут  наказывать его по своему усмотрению, ограничивать его свободу, навязывать ему свои вкусы, контролировать все его действия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Родители не уделяют ребенку необходимого внимания и заботы, чрезмерно придирчивы к нему, требуют от него жесткого соблюдения порядка, беспрекословного послушания, подчинения семейным традициям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Они наказывают ребенка за несоблюдение порядка, за плохие отметки, за невыполнение их требований.  Мало заботятся о воспитании нравственных качеств, уделяя внимание воспитанию послушания. Готовя с ребенком уроки, родители принимают назидательный тон, стараются «выжать» из него самостоятельные действия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53" name="Рисунок 3" descr="7080f07c519e7dde226cc2f2d5448858военные.gif"/>
          <p:cNvPicPr/>
          <p:nvPr/>
        </p:nvPicPr>
        <p:blipFill>
          <a:blip r:embed="rId1"/>
          <a:stretch/>
        </p:blipFill>
        <p:spPr>
          <a:xfrm>
            <a:off x="6235560" y="1547640"/>
            <a:ext cx="3041640" cy="3762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drumroll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воспитание    ОПЕКОЙ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8760" y="785880"/>
            <a:ext cx="52862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Родители тепло и заботливо относятся к ребенку, но контролируют каждый его шаг, не позволяют ему ничего, что могло бы вызвать недовольство взрослых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Они вмешиваются в его взаимоотношения со сверстниками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и навязывают свои пути выхода из детских конфликтов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Они запрещают все, что с их точки зрения может представлять хотя бы малейшую угрозу его здоровью, вплоть до катания с крутых горок. Все действия ребенка проходят под неусыпным взором взрослых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Домашние задания выполняются вместе с детьми. Как правило, решения подсказывают взрослые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56" name="Picture 5" descr="C:\Users\Галина\Pictures\0809111509340воспитание родителят.jpg"/>
          <p:cNvPicPr/>
          <p:nvPr/>
        </p:nvPicPr>
        <p:blipFill>
          <a:blip r:embed="rId1"/>
          <a:stretch/>
        </p:blipFill>
        <p:spPr>
          <a:xfrm>
            <a:off x="5907240" y="1335240"/>
            <a:ext cx="3041640" cy="4022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drumroll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Воспитание по типу КУМИРА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85480" y="928440"/>
            <a:ext cx="4500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Ребенок  - кумир семьи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Это может быть «поздний» ребенок в семье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Родители выполняют все его требования и малейшие капризы. Порой, отказывая себе, они покупают ему дорогие вещи и игры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Часто родители делают за него то или иное домашнее задание только потому, что ребенок сам не хочет его сделать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59" name="Picture 2" descr="C:\Users\Галина\Pictures\1261325053_c25-26-50день семейного общения.jpg"/>
          <p:cNvPicPr/>
          <p:nvPr/>
        </p:nvPicPr>
        <p:blipFill>
          <a:blip r:embed="rId1"/>
          <a:stretch/>
        </p:blipFill>
        <p:spPr>
          <a:xfrm>
            <a:off x="5016600" y="1474920"/>
            <a:ext cx="4151160" cy="4047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drumroll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Воспитание   РАВНОДУШИЕМ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92844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Ребенок не получает в семье должного тепла и внимания, он предоставлен сам себе, родители практически не контролируют его времяпрепровождение и занятия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Они не формируют у него целенаправленно навыки социальной жизни, не обучают его пониманию «что такое хорошо, а что такое плохо», не следят за выполнением домашних заданий, не знают , что происходит у него в школе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Их не интересуют детские проблемы, ребенок не может получить от родителей добрый совет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62" name="Picture 6" descr="C:\Users\Галина\Pictures\ab1352ca0952afc603a38ec733ca38d6дети 6.gif"/>
          <p:cNvPicPr/>
          <p:nvPr/>
        </p:nvPicPr>
        <p:blipFill>
          <a:blip r:embed="rId1"/>
          <a:stretch/>
        </p:blipFill>
        <p:spPr>
          <a:xfrm>
            <a:off x="3333600" y="4048200"/>
            <a:ext cx="2476800" cy="2681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drumroll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Воспитание  ДОВЕРИЕМ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6760" y="856800"/>
            <a:ext cx="835812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Родители предоставляют ребенку определенную самостоятельность, уважают его человеческое достоинство, позволяют часто самому регулировать свое поведение, готовы прийти на помощь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Они всерьез заинтересованы в том, чтобы ребенок самостоятельно принимал решения, для этого создают ситуации выбора и помогают ему самому принять то или иное решение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Его ошибки обсуждаются вместе с родителями и совместно ищутся пути их исправления. Родители контролируют учебную деятельность ребенка, доверяя ему и помогая по мере необходимости советом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65" name="Picture 5" descr="C:\Users\Галина\Pictures\Люди.gif"/>
          <p:cNvPicPr/>
          <p:nvPr/>
        </p:nvPicPr>
        <p:blipFill>
          <a:blip r:embed="rId1"/>
          <a:stretch/>
        </p:blipFill>
        <p:spPr>
          <a:xfrm>
            <a:off x="3492360" y="4145040"/>
            <a:ext cx="224316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drumroll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74296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В чем же должен состоять настоящий родительский авторитет?</a:t>
            </a:r>
            <a:endParaRPr b="1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56760" y="1285560"/>
            <a:ext cx="82868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«Главным основанием родительского авторитета только и может быть жизнь и работа родителей, их гражданское лицо, их поведение. Семья есть большое и ответственное дело. Родители руководят этим делом и отвечают за него перед обществом, перед своим счастьем и перед жизнью детей…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Прежде всего родители должны знать, чем живет, интересуется, что любит, чего хочет и не хочет  ребенок. Вы должны знать, с кем он дружит, с кем играет, во что играет, что читает, как воспринимает прочитанное.Вы не должны неожиданно узнавать о разных неприятностях и конфликтах. Вы  должны их предугадывать и предупреждать». (А.С.Макаренко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Понимание ребенка, принятие его не только сердцем, но умом, осознание своей ответственности за судьбу маленького человека помогут взрослым выбрать тот стиль воспитания, который принесет благо и ребенку и родителям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68" name="Picture 5" descr="C:\Users\Галина\Pictures\Птицы.gif"/>
          <p:cNvPicPr/>
          <p:nvPr/>
        </p:nvPicPr>
        <p:blipFill>
          <a:blip r:embed="rId1"/>
          <a:stretch/>
        </p:blipFill>
        <p:spPr>
          <a:xfrm>
            <a:off x="0" y="-142920"/>
            <a:ext cx="127620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43:06Z</dcterms:created>
  <dc:creator>Галина</dc:creator>
  <dc:description/>
  <dc:language>en-US</dc:language>
  <cp:lastModifiedBy>Гимназия 48</cp:lastModifiedBy>
  <dcterms:modified xsi:type="dcterms:W3CDTF">2014-12-09T08:51:49Z</dcterms:modified>
  <cp:revision>40</cp:revision>
  <dc:subject/>
  <dc:title>Слайд 1</dc:title>
</cp:coreProperties>
</file>