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83E-11A8-4C3A-A169-49999A83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514-7039-4057-A97A-B75ED08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EE7-0EB8-4E37-BD1C-23A98FBF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831-8B53-4CBD-88EA-71922831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C584-D85A-40EC-A5B9-0A83B582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F871-05A4-42A4-A475-EDFB0226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9B46-5181-4C9C-8603-F891327D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4476-DCF7-476F-95BD-9CCC26FE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B95D-940C-4D21-BBA8-FAF218BF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933B-34C5-4C87-81CA-CC06B68D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AFB2-FF93-47F4-A8E3-930F08D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1AF-042B-4BF4-A978-BB629D0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E8C7-7134-4041-A149-F415EB9D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1B7A-DEEB-48CD-AE96-8FAA56B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148B-DCF3-4B99-83CE-47A60DE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3BF0-CCBE-418C-A21A-0871911E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AED1-5329-4F22-AF8A-7F8C2529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31E-2C2F-4B85-966E-A8B5C025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924-6683-4F04-870D-6D7B864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ACC-A6D2-435B-9BBF-7C2431F9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5BF-15AD-4425-8D99-B4C35B6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2A3-A148-4F1D-923A-1E4AC97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C21-3BFF-472D-90AB-3073ED1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30D-2EDA-40A6-B590-31437BD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F21-367A-4465-B048-A93A02B31C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30EE-BDAC-4FAF-98DB-1F89521BA18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7620120" cy="412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Дюкарев</cp:lastModifiedBy>
  <dcterms:modified xsi:type="dcterms:W3CDTF">2010-09-21T11:48:43Z</dcterms:modified>
  <cp:revision>7</cp:revision>
  <dc:subject/>
  <dc:title>Слайд 1</dc:title>
</cp:coreProperties>
</file>